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952-2D7D-4C65-AF82-B06F97DA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F46-25A2-45C4-8D7F-E0BA77D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2D7-A355-4F9D-85DA-1240D7F1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451-981E-419C-ADBE-E4A99FB1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402-475D-4906-A854-3485527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EAB-7EEF-4726-90B3-B8DB7CF1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707-9606-4935-A323-20B1529F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111-6651-4AF6-92C2-678B5B36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4D4-A2B2-4DB7-9B82-15114094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58F-EB32-4106-A788-1C6E987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87D-7DFA-44C3-B0CC-82A9964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6E7-6DA3-40DA-B3A7-06E8AA6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ED42-D881-4CC7-942C-06AEAD440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Confused Words 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compli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co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serves to be pai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serves to be paid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i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ll ready    b) al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nce class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d on to intermediat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nce class h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rea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on to intermediat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ffects    b)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fully understand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genetically modified food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fully understand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ff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genetically modified food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ssistance    b) 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ice has become so busy the manager has decided to hire two ne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ice has become so busy the manager has decided to hire two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is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they’re    b) the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make s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o o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make su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y’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to go o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weather    b) wh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experience the best Southern Californ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isit in April or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experience the best Southern Californi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isit in April or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h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n’t take more than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n’t take more than a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ccep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ex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going camping this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going camping this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cep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mbigu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ambiva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erson cannot make a choice or doesn’t have a strong opinion, he or sh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erson cannot make a choice or doesn’t have a strong opinion, he or she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devi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lan to get my students to speak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i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 to get my students to speak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22:19Z</dcterms:created>
  <dc:creator>SCE ESL PROGRAM</dc:creator>
  <dc:description/>
  <dc:language>en-US</dc:language>
  <cp:lastModifiedBy>SCE ESL PROGRAM</cp:lastModifiedBy>
  <dcterms:modified xsi:type="dcterms:W3CDTF">2012-04-02T22:48:58Z</dcterms:modified>
  <cp:revision>2</cp:revision>
  <dc:subject/>
  <dc:title>Commonly Confused Words</dc:title>
</cp:coreProperties>
</file>